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doorbl07.wav" ContentType="audio/x-wav"/>
  <Override PartName="/ppt/media/image41.wmf" ContentType="image/x-wmf"/>
  <Override PartName="/ppt/media/image40.wmf" ContentType="image/x-wmf"/>
  <Override PartName="/ppt/media/image30.wmf" ContentType="image/x-wmf"/>
  <Override PartName="/ppt/media/projctor.wav" ContentType="audio/x-wav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driveby.wav" ContentType="audio/x-wav"/>
  <Override PartName="/ppt/media/image19.wmf" ContentType="image/x-wmf"/>
  <Override PartName="/ppt/media/image7.wmf" ContentType="image/x-wmf"/>
  <Override PartName="/ppt/media/image18.wmf" ContentType="image/x-wmf"/>
  <Override PartName="/ppt/media/image6.wmf" ContentType="image/x-wmf"/>
  <Override PartName="/ppt/media/image39.wmf" ContentType="image/x-wmf"/>
  <Override PartName="/ppt/media/image9.wmf" ContentType="image/x-wmf"/>
  <Override PartName="/ppt/media/image29.wmf" ContentType="image/x-wmf"/>
  <Override PartName="/ppt/media/WHOOSH.WAV" ContentType="audio/x-wav"/>
  <Override PartName="/ppt/media/image28.wmf" ContentType="image/x-wmf"/>
  <Override PartName="/ppt/media/image47.wmf" ContentType="image/x-wmf"/>
  <Override PartName="/ppt/media/image10.wmf" ContentType="image/x-wmf"/>
  <Override PartName="/ppt/media/image48.wmf" ContentType="image/x-wmf"/>
  <Override PartName="/ppt/media/image11.wmf" ContentType="image/x-wmf"/>
  <Override PartName="/ppt/media/image50.wmf" ContentType="image/x-wmf"/>
  <Override PartName="/ppt/media/image63.wmf" ContentType="image/x-wmf"/>
  <Override PartName="/ppt/media/zapbig0g.wav" ContentType="audio/x-wav"/>
  <Override PartName="/ppt/media/bbeeps04.wav" ContentType="audio/x-wav"/>
  <Override PartName="/ppt/media/image31.wmf" ContentType="image/x-wmf"/>
  <Override PartName="/ppt/media/fastsnaps.wav" ContentType="audio/x-wav"/>
  <Override PartName="/ppt/media/image55.wmf" ContentType="image/x-wmf"/>
  <Override PartName="/ppt/media/LASER.WAV" ContentType="audio/x-wav"/>
  <Override PartName="/ppt/media/CHIMES.WAV" ContentType="audio/x-wav"/>
  <Override PartName="/ppt/media/image49.wmf" ContentType="image/x-wmf"/>
  <Override PartName="/ppt/media/boinng04.wav" ContentType="audio/x-wav"/>
  <Override PartName="/ppt/media/image60.wmf" ContentType="image/x-wmf"/>
  <Override PartName="/ppt/media/image51.wmf" ContentType="image/x-wmf"/>
  <Override PartName="/ppt/media/lzipup01.wav" ContentType="audio/x-wav"/>
  <Override PartName="/ppt/media/woman%20giggle.wav" ContentType="audio/x-wav"/>
  <Override PartName="/ppt/media/image62.wmf" ContentType="image/x-wmf"/>
  <Override PartName="/ppt/media/image61.wmf" ContentType="image/x-wmf"/>
  <Override PartName="/ppt/media/image59.wmf" ContentType="image/x-wmf"/>
  <Override PartName="/ppt/media/image57.wmf" ContentType="image/x-wmf"/>
  <Override PartName="/ppt/media/zipby102.wav" ContentType="audio/x-wav"/>
  <Override PartName="/ppt/media/image56.wmf" ContentType="image/x-wmf"/>
  <Override PartName="/ppt/media/image54.wmf" ContentType="image/x-wmf"/>
  <Override PartName="/ppt/media/image53.wmf" ContentType="image/x-wmf"/>
  <Override PartName="/ppt/media/oldcarhorn.wav" ContentType="audio/x-wav"/>
  <Override PartName="/ppt/media/image52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zipdn102.wav" ContentType="audio/x-wav"/>
  <Override PartName="/ppt/media/image27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36.wmf" ContentType="image/x-wmf"/>
  <Override PartName="/ppt/media/image24.wmf" ContentType="image/x-wmf"/>
  <Override PartName="/ppt/media/image12.wmf" ContentType="image/x-wmf"/>
  <Override PartName="/ppt/media/hzipup01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zipup202.wav" ContentType="audio/x-wav"/>
  <Override PartName="/ppt/media/image58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845-D37A-4FCD-8428-0A69A63C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F8F-EAE7-4D69-A65F-15B11241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D18-2E81-4B6D-ADC7-C255485C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640-1EA9-4A50-818D-F858F0E5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472-AC60-46A1-9C2C-D2F2861B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C53-DECF-4D12-A623-20F91CE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A45-B8EB-45ED-8DB4-71601C0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44D-0D41-4D43-97B8-4F6F951C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B5F-8AC6-4DF7-9837-45ADE2C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944-CB36-4A70-A819-70E6A8D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74A-CC5F-484B-960E-333D97BE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6E-0C13-4D5B-B323-B467D636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461C-1948-4794-8778-6809E4EDF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5.wmf"/><Relationship Id="rId41" Type="http://schemas.openxmlformats.org/officeDocument/2006/relationships/audio" Target="../media/WHOOSH.WAV"/><Relationship Id="rId42" Type="http://schemas.openxmlformats.org/officeDocument/2006/relationships/audio" Target="../media/CHIMES.WAV"/><Relationship Id="rId43" Type="http://schemas.openxmlformats.org/officeDocument/2006/relationships/audio" Target="../media/lzipup01.wav"/><Relationship Id="rId44" Type="http://schemas.openxmlformats.org/officeDocument/2006/relationships/audio" Target="../media/projctor.wav"/><Relationship Id="rId45" Type="http://schemas.openxmlformats.org/officeDocument/2006/relationships/audio" Target="../media/zipup202.wav"/><Relationship Id="rId46" Type="http://schemas.openxmlformats.org/officeDocument/2006/relationships/audio" Target="../media/zipup202.wav"/><Relationship Id="rId47" Type="http://schemas.openxmlformats.org/officeDocument/2006/relationships/audio" Target="../media/zipup202.wav"/><Relationship Id="rId48" Type="http://schemas.openxmlformats.org/officeDocument/2006/relationships/audio" Target="../media/zipup202.wav"/><Relationship Id="rId49" Type="http://schemas.openxmlformats.org/officeDocument/2006/relationships/audio" Target="../media/projctor.wav"/><Relationship Id="rId50" Type="http://schemas.openxmlformats.org/officeDocument/2006/relationships/audio" Target="../media/zipup202.wav"/><Relationship Id="rId51" Type="http://schemas.openxmlformats.org/officeDocument/2006/relationships/audio" Target="../media/zipup202.wav"/><Relationship Id="rId52" Type="http://schemas.openxmlformats.org/officeDocument/2006/relationships/audio" Target="../media/hzipup01.wav"/><Relationship Id="rId53" Type="http://schemas.openxmlformats.org/officeDocument/2006/relationships/audio" Target="../media/glass.wav"/><Relationship Id="rId54" Type="http://schemas.openxmlformats.org/officeDocument/2006/relationships/audio" Target="../media/zapbig0g.wav"/><Relationship Id="rId55" Type="http://schemas.openxmlformats.org/officeDocument/2006/relationships/audio" Target="../media/zapbig0g.wav"/><Relationship Id="rId56" Type="http://schemas.openxmlformats.org/officeDocument/2006/relationships/audio" Target="../media/zapbig0g.wav"/><Relationship Id="rId57" Type="http://schemas.openxmlformats.org/officeDocument/2006/relationships/audio" Target="../media/zipby102.wav"/><Relationship Id="rId58" Type="http://schemas.openxmlformats.org/officeDocument/2006/relationships/audio" Target="../media/zipby102.wav"/><Relationship Id="rId59" Type="http://schemas.openxmlformats.org/officeDocument/2006/relationships/audio" Target="../media/zipby102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zipdn102.wav"/><Relationship Id="rId64" Type="http://schemas.openxmlformats.org/officeDocument/2006/relationships/audio" Target="../media/zipdn102.wav"/><Relationship Id="rId65" Type="http://schemas.openxmlformats.org/officeDocument/2006/relationships/audio" Target="../media/zipdn102.wav"/><Relationship Id="rId6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7.wmf"/><Relationship Id="rId45" Type="http://schemas.openxmlformats.org/officeDocument/2006/relationships/audio" Target="../media/lzipup01.wav"/><Relationship Id="rId46" Type="http://schemas.openxmlformats.org/officeDocument/2006/relationships/audio" Target="../media/projctor.wav"/><Relationship Id="rId47" Type="http://schemas.openxmlformats.org/officeDocument/2006/relationships/audio" Target="../media/zipup202.wav"/><Relationship Id="rId48" Type="http://schemas.openxmlformats.org/officeDocument/2006/relationships/audio" Target="../media/zipup202.wav"/><Relationship Id="rId49" Type="http://schemas.openxmlformats.org/officeDocument/2006/relationships/audio" Target="../media/zipup202.wav"/><Relationship Id="rId50" Type="http://schemas.openxmlformats.org/officeDocument/2006/relationships/audio" Target="../media/zipup202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projctor.wav"/><Relationship Id="rId54" Type="http://schemas.openxmlformats.org/officeDocument/2006/relationships/audio" Target="../media/zipup202.wav"/><Relationship Id="rId55" Type="http://schemas.openxmlformats.org/officeDocument/2006/relationships/audio" Target="../media/zipup202.wav"/><Relationship Id="rId56" Type="http://schemas.openxmlformats.org/officeDocument/2006/relationships/audio" Target="../media/EXPLODE.WAV"/><Relationship Id="rId57" Type="http://schemas.openxmlformats.org/officeDocument/2006/relationships/audio" Target="../media/glass.wav"/><Relationship Id="rId58" Type="http://schemas.openxmlformats.org/officeDocument/2006/relationships/audio" Target="../media/hzipup01.wav"/><Relationship Id="rId59" Type="http://schemas.openxmlformats.org/officeDocument/2006/relationships/audio" Target="../media/hzipup01.wav"/><Relationship Id="rId60" Type="http://schemas.openxmlformats.org/officeDocument/2006/relationships/audio" Target="../media/hzipup01.wav"/><Relationship Id="rId61" Type="http://schemas.openxmlformats.org/officeDocument/2006/relationships/audio" Target="../media/zapbig0g.wav"/><Relationship Id="rId62" Type="http://schemas.openxmlformats.org/officeDocument/2006/relationships/audio" Target="../media/zapbig0g.wav"/><Relationship Id="rId63" Type="http://schemas.openxmlformats.org/officeDocument/2006/relationships/audio" Target="../media/zapbig0g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driveby.wav"/><Relationship Id="rId67" Type="http://schemas.openxmlformats.org/officeDocument/2006/relationships/audio" Target="../media/zipby102.wav"/><Relationship Id="rId68" Type="http://schemas.openxmlformats.org/officeDocument/2006/relationships/audio" Target="../media/zipby102.wav"/><Relationship Id="rId69" Type="http://schemas.openxmlformats.org/officeDocument/2006/relationships/audio" Target="../media/zipby102.wav"/><Relationship Id="rId7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7.wmf"/><Relationship Id="rId49" Type="http://schemas.openxmlformats.org/officeDocument/2006/relationships/audio" Target="../media/lzipup01.wav"/><Relationship Id="rId50" Type="http://schemas.openxmlformats.org/officeDocument/2006/relationships/audio" Target="../media/projctor.wav"/><Relationship Id="rId51" Type="http://schemas.openxmlformats.org/officeDocument/2006/relationships/audio" Target="../media/zipup202.wav"/><Relationship Id="rId52" Type="http://schemas.openxmlformats.org/officeDocument/2006/relationships/audio" Target="../media/zipup202.wav"/><Relationship Id="rId53" Type="http://schemas.openxmlformats.org/officeDocument/2006/relationships/audio" Target="../media/zipup202.wav"/><Relationship Id="rId54" Type="http://schemas.openxmlformats.org/officeDocument/2006/relationships/audio" Target="../media/zipup202.wav"/><Relationship Id="rId55" Type="http://schemas.openxmlformats.org/officeDocument/2006/relationships/audio" Target="../media/projctor.wav"/><Relationship Id="rId56" Type="http://schemas.openxmlformats.org/officeDocument/2006/relationships/audio" Target="../media/zipup202.wav"/><Relationship Id="rId57" Type="http://schemas.openxmlformats.org/officeDocument/2006/relationships/audio" Target="../media/zipup202.wav"/><Relationship Id="rId58" Type="http://schemas.openxmlformats.org/officeDocument/2006/relationships/audio" Target="../media/EXPLODE.WAV"/><Relationship Id="rId59" Type="http://schemas.openxmlformats.org/officeDocument/2006/relationships/audio" Target="../media/glass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audio" Target="../media/hzipup01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zapbig0g.wav"/><Relationship Id="rId68" Type="http://schemas.openxmlformats.org/officeDocument/2006/relationships/audio" Target="../media/zapbig0g.wav"/><Relationship Id="rId69" Type="http://schemas.openxmlformats.org/officeDocument/2006/relationships/audio" Target="../media/zapbig0g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driveby.wav"/><Relationship Id="rId73" Type="http://schemas.openxmlformats.org/officeDocument/2006/relationships/audio" Target="../media/zipdn102.wav"/><Relationship Id="rId74" Type="http://schemas.openxmlformats.org/officeDocument/2006/relationships/audio" Target="../media/zipdn102.wav"/><Relationship Id="rId75" Type="http://schemas.openxmlformats.org/officeDocument/2006/relationships/audio" Target="../media/zipdn102.wav"/><Relationship Id="rId7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.wmf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woman%20giggle.wav"/><Relationship Id="rId43" Type="http://schemas.openxmlformats.org/officeDocument/2006/relationships/audio" Target="../media/projctor.wav"/><Relationship Id="rId44" Type="http://schemas.openxmlformats.org/officeDocument/2006/relationships/audio" Target="../media/projctor.wav"/><Relationship Id="rId45" Type="http://schemas.openxmlformats.org/officeDocument/2006/relationships/audio" Target="../media/glass.wav"/><Relationship Id="rId46" Type="http://schemas.openxmlformats.org/officeDocument/2006/relationships/audio" Target="../media/fastsnaps.wav"/><Relationship Id="rId47" Type="http://schemas.openxmlformats.org/officeDocument/2006/relationships/audio" Target="../media/fastsnaps.wav"/><Relationship Id="rId48" Type="http://schemas.openxmlformats.org/officeDocument/2006/relationships/audio" Target="../media/fastsnaps.wav"/><Relationship Id="rId49" Type="http://schemas.openxmlformats.org/officeDocument/2006/relationships/audio" Target="../media/driveby.wav"/><Relationship Id="rId50" Type="http://schemas.openxmlformats.org/officeDocument/2006/relationships/audio" Target="../media/driveby.wav"/><Relationship Id="rId51" Type="http://schemas.openxmlformats.org/officeDocument/2006/relationships/audio" Target="../media/zipup202.wav"/><Relationship Id="rId52" Type="http://schemas.openxmlformats.org/officeDocument/2006/relationships/audio" Target="../media/zipup202.wav"/><Relationship Id="rId53" Type="http://schemas.openxmlformats.org/officeDocument/2006/relationships/audio" Target="../media/zipup202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driveby.wav"/><Relationship Id="rId57" Type="http://schemas.openxmlformats.org/officeDocument/2006/relationships/audio" Target="../media/boinng04.wav"/><Relationship Id="rId58" Type="http://schemas.openxmlformats.org/officeDocument/2006/relationships/audio" Target="../media/boinng04.wav"/><Relationship Id="rId59" Type="http://schemas.openxmlformats.org/officeDocument/2006/relationships/audio" Target="../media/boinng04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driveby.wav"/><Relationship Id="rId65" Type="http://schemas.openxmlformats.org/officeDocument/2006/relationships/audio" Target="../media/LASER.WAV"/><Relationship Id="rId66" Type="http://schemas.openxmlformats.org/officeDocument/2006/relationships/audio" Target="../media/oldcarhorn.wav"/><Relationship Id="rId67" Type="http://schemas.openxmlformats.org/officeDocument/2006/relationships/audio" Target="../media/oldcarhorn.wav"/><Relationship Id="rId68" Type="http://schemas.openxmlformats.org/officeDocument/2006/relationships/audio" Target="../media/oldcarhorn.wav"/><Relationship Id="rId6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audio" Target="../media/woman%20giggle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zipdn102.wav"/><Relationship Id="rId31" Type="http://schemas.openxmlformats.org/officeDocument/2006/relationships/audio" Target="../media/fastsnaps.wav"/><Relationship Id="rId32" Type="http://schemas.openxmlformats.org/officeDocument/2006/relationships/audio" Target="../media/fastsnaps.wav"/><Relationship Id="rId33" Type="http://schemas.openxmlformats.org/officeDocument/2006/relationships/audio" Target="../media/fastsnaps.wav"/><Relationship Id="rId34" Type="http://schemas.openxmlformats.org/officeDocument/2006/relationships/audio" Target="../media/boinng04.wav"/><Relationship Id="rId35" Type="http://schemas.openxmlformats.org/officeDocument/2006/relationships/audio" Target="../media/boinng04.wav"/><Relationship Id="rId36" Type="http://schemas.openxmlformats.org/officeDocument/2006/relationships/audio" Target="../media/boinng04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bbeeps04.wav"/><Relationship Id="rId41" Type="http://schemas.openxmlformats.org/officeDocument/2006/relationships/audio" Target="../media/bbeeps04.wav"/><Relationship Id="rId42" Type="http://schemas.openxmlformats.org/officeDocument/2006/relationships/audio" Target="../media/bbeeps04.wav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6.wmf"/><Relationship Id="rId39" Type="http://schemas.openxmlformats.org/officeDocument/2006/relationships/audio" Target="../media/woman%20giggle.wav"/><Relationship Id="rId40" Type="http://schemas.openxmlformats.org/officeDocument/2006/relationships/audio" Target="../media/projctor.wav"/><Relationship Id="rId41" Type="http://schemas.openxmlformats.org/officeDocument/2006/relationships/audio" Target="../media/projctor.wav"/><Relationship Id="rId42" Type="http://schemas.openxmlformats.org/officeDocument/2006/relationships/audio" Target="../media/glass.wav"/><Relationship Id="rId43" Type="http://schemas.openxmlformats.org/officeDocument/2006/relationships/audio" Target="../media/zipdn102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driveby.wav"/><Relationship Id="rId47" Type="http://schemas.openxmlformats.org/officeDocument/2006/relationships/audio" Target="../media/driveby.wav"/><Relationship Id="rId48" Type="http://schemas.openxmlformats.org/officeDocument/2006/relationships/audio" Target="../media/fastsnaps.wav"/><Relationship Id="rId49" Type="http://schemas.openxmlformats.org/officeDocument/2006/relationships/audio" Target="../media/fastsnaps.wav"/><Relationship Id="rId50" Type="http://schemas.openxmlformats.org/officeDocument/2006/relationships/audio" Target="../media/fastsnaps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driveby.wav"/><Relationship Id="rId54" Type="http://schemas.openxmlformats.org/officeDocument/2006/relationships/audio" Target="../media/boinng04.wav"/><Relationship Id="rId55" Type="http://schemas.openxmlformats.org/officeDocument/2006/relationships/audio" Target="../media/boinng04.wav"/><Relationship Id="rId56" Type="http://schemas.openxmlformats.org/officeDocument/2006/relationships/audio" Target="../media/boinng04.wav"/><Relationship Id="rId57" Type="http://schemas.openxmlformats.org/officeDocument/2006/relationships/audio" Target="../media/driveby.wav"/><Relationship Id="rId58" Type="http://schemas.openxmlformats.org/officeDocument/2006/relationships/audio" Target="../media/LASER.WAV"/><Relationship Id="rId59" Type="http://schemas.openxmlformats.org/officeDocument/2006/relationships/audio" Target="../media/driveby.wav"/><Relationship Id="rId60" Type="http://schemas.openxmlformats.org/officeDocument/2006/relationships/audio" Target="../media/LASER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doorbl07.wav"/><Relationship Id="rId64" Type="http://schemas.openxmlformats.org/officeDocument/2006/relationships/audio" Target="../media/doorbl07.wav"/><Relationship Id="rId65" Type="http://schemas.openxmlformats.org/officeDocument/2006/relationships/audio" Target="../media/doorbl07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80880" y="1752480"/>
                <a:ext cx="4327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762120" y="3809880"/>
                <a:ext cx="4649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5" name=""/>
          <p:cNvGraphicFramePr/>
          <p:nvPr/>
        </p:nvGraphicFramePr>
        <p:xfrm>
          <a:off x="1805040" y="3886200"/>
          <a:ext cx="512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886200"/>
                    <a:ext cx="512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048120" y="3886200"/>
          <a:ext cx="41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88620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24280" y="3886200"/>
          <a:ext cx="514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88620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119240" y="457200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9240" y="457200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971800" y="4648320"/>
          <a:ext cx="5158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648320"/>
                    <a:ext cx="515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429000" y="502920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02920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76520" y="5029200"/>
          <a:ext cx="8823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502920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44440" y="5638680"/>
            <a:ext cx="3686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06560" y="5791320"/>
          <a:ext cx="51444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6560" y="5791320"/>
                    <a:ext cx="514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438280" y="5791320"/>
          <a:ext cx="102888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791320"/>
                    <a:ext cx="10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429000" y="5715000"/>
          <a:ext cx="8222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5715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429000" y="4572000"/>
          <a:ext cx="876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4572000"/>
                    <a:ext cx="876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778280" y="2666880"/>
          <a:ext cx="43992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8280" y="266688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867280" y="2666880"/>
          <a:ext cx="3952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800600" y="3276720"/>
          <a:ext cx="43956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00600" y="32767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88160" y="3276720"/>
          <a:ext cx="3524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88160" y="32767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238880" y="2666880"/>
          <a:ext cx="39528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261200" y="3276720"/>
          <a:ext cx="39528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26120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792920" y="2895480"/>
          <a:ext cx="79056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792920" y="2895480"/>
                    <a:ext cx="790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1752480"/>
                <a:ext cx="4686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03320" y="3786120"/>
                <a:ext cx="4573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1905120" y="3886200"/>
          <a:ext cx="512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86200"/>
                    <a:ext cx="512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35160" y="3871800"/>
          <a:ext cx="8226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3871800"/>
                    <a:ext cx="822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25880" y="3886200"/>
          <a:ext cx="46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5880" y="3886200"/>
                    <a:ext cx="46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119240" y="457200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9240" y="457200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971800" y="4572000"/>
          <a:ext cx="11858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572000"/>
                    <a:ext cx="11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038480" y="502920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76520" y="5029200"/>
          <a:ext cx="8823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502920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144440" y="5638680"/>
            <a:ext cx="3686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6560" y="5791320"/>
          <a:ext cx="51444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6560" y="5791320"/>
                    <a:ext cx="514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5715000"/>
          <a:ext cx="16448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715000"/>
                    <a:ext cx="1644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2520" y="5715000"/>
          <a:ext cx="8730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5715000"/>
                    <a:ext cx="87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038480" y="4572000"/>
          <a:ext cx="8240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457200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78280" y="2666880"/>
          <a:ext cx="43992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8280" y="266688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35520" y="2666880"/>
          <a:ext cx="65880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35520" y="2666880"/>
                    <a:ext cx="658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22920" y="3276720"/>
          <a:ext cx="39528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2292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888160" y="3276720"/>
          <a:ext cx="3524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88160" y="32767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238880" y="2666880"/>
          <a:ext cx="39528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010280" y="3276720"/>
          <a:ext cx="65880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10280" y="3276720"/>
                    <a:ext cx="6588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72400" y="2895480"/>
          <a:ext cx="114156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772400" y="2895480"/>
                    <a:ext cx="1141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257800" y="2514600"/>
          <a:ext cx="66024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257800" y="251460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638680" y="2666880"/>
          <a:ext cx="660600" cy="6098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26668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20760" y="1698480"/>
                <a:ext cx="5203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22320" y="3767040"/>
                <a:ext cx="4816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1784520" y="3886200"/>
          <a:ext cx="82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3886200"/>
                    <a:ext cx="82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276720" y="3886200"/>
          <a:ext cx="461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461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859280" y="3873600"/>
          <a:ext cx="873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873600"/>
                    <a:ext cx="873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92240" y="4572000"/>
          <a:ext cx="1851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92240" y="4572000"/>
                    <a:ext cx="1851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75120" y="4572000"/>
          <a:ext cx="8254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5120" y="4572000"/>
                    <a:ext cx="825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59120" y="5029200"/>
          <a:ext cx="8305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9120" y="5029200"/>
                    <a:ext cx="8305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649520" y="502920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4952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092240" y="563868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54360" y="5791320"/>
          <a:ext cx="51408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54360" y="5791320"/>
                    <a:ext cx="51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362320" y="5715000"/>
          <a:ext cx="12859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5715000"/>
                    <a:ext cx="1285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708360" y="5715000"/>
          <a:ext cx="8222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08360" y="5715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59120" y="4572000"/>
          <a:ext cx="822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4572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646520" y="2666880"/>
          <a:ext cx="70344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6520" y="2666880"/>
                    <a:ext cx="703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867280" y="2666880"/>
          <a:ext cx="3952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646520" y="3276720"/>
          <a:ext cx="74772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46520" y="32767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867280" y="3276720"/>
          <a:ext cx="39528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6728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86600" y="2666880"/>
          <a:ext cx="70164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086600" y="2666880"/>
                    <a:ext cx="701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6600" y="3276720"/>
          <a:ext cx="74628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86600" y="3276720"/>
                    <a:ext cx="746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926480" y="2895480"/>
          <a:ext cx="83340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926480" y="2895480"/>
                    <a:ext cx="8334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395360" y="3886200"/>
          <a:ext cx="66060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395360" y="3886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73360" y="3902040"/>
          <a:ext cx="660240" cy="609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773360" y="3902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441680" y="3886200"/>
          <a:ext cx="66060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441680" y="3886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873680" y="3886200"/>
          <a:ext cx="660240" cy="6094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873680" y="388620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89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5440" y="3097080"/>
                <a:ext cx="47991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4" name=""/>
          <p:cNvGraphicFramePr/>
          <p:nvPr/>
        </p:nvGraphicFramePr>
        <p:xfrm>
          <a:off x="6858000" y="3124080"/>
          <a:ext cx="16765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124080"/>
                    <a:ext cx="16765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77960" y="3844800"/>
                <a:ext cx="4803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1752480" y="3962520"/>
          <a:ext cx="513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962520"/>
                    <a:ext cx="51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997360" y="3733920"/>
          <a:ext cx="71280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7360" y="3733920"/>
                    <a:ext cx="7128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902120" y="3962520"/>
          <a:ext cx="5144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2120" y="396252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09480" y="4622760"/>
          <a:ext cx="21607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622760"/>
                    <a:ext cx="2160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819520" y="4699080"/>
          <a:ext cx="87444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699080"/>
                    <a:ext cx="874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606840" y="5105520"/>
          <a:ext cx="8301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6840" y="51055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507996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0799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914400" y="5689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25760" y="5715000"/>
          <a:ext cx="7570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25760" y="5715000"/>
                    <a:ext cx="757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35240" y="5791320"/>
          <a:ext cx="138888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5240" y="5791320"/>
                    <a:ext cx="138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30520" y="5715000"/>
          <a:ext cx="1067040" cy="57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30520" y="5715000"/>
                    <a:ext cx="10670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581280" y="4648320"/>
          <a:ext cx="87480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81280" y="4648320"/>
                    <a:ext cx="874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92800" y="3581280"/>
          <a:ext cx="2851200" cy="171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92800" y="3581280"/>
                    <a:ext cx="28512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 flipH="1">
            <a:off x="177804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9120" y="3886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58880" y="6245280"/>
          <a:ext cx="5191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888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022560" y="6245280"/>
          <a:ext cx="519120" cy="61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2256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523880" y="624528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780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165560" y="6245280"/>
          <a:ext cx="5191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16556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06080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257800" y="5867280"/>
          <a:ext cx="1166760" cy="747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324480" y="5516640"/>
          <a:ext cx="1228680" cy="1341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324480" y="5516640"/>
                    <a:ext cx="1228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7623000" y="5811840"/>
          <a:ext cx="831960" cy="61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623000" y="5811840"/>
                    <a:ext cx="8319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241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4640" y="2916360"/>
                <a:ext cx="490716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6858000" y="2819520"/>
          <a:ext cx="180324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819520"/>
                    <a:ext cx="18032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16120" y="4282920"/>
                <a:ext cx="4806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1828800" y="4394160"/>
          <a:ext cx="41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39416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149640" y="4394160"/>
          <a:ext cx="45720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9640" y="4394160"/>
                    <a:ext cx="457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952880" y="4394160"/>
          <a:ext cx="4636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39416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966960" y="5054760"/>
          <a:ext cx="18000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6960" y="5054760"/>
                    <a:ext cx="1800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692440" y="5079960"/>
          <a:ext cx="8222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507996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657600" y="5537160"/>
          <a:ext cx="77796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5537160"/>
                    <a:ext cx="7779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498680" y="5511960"/>
          <a:ext cx="7779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98680" y="551196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939960" y="6121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806480" y="6197760"/>
          <a:ext cx="4460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06480" y="6197760"/>
                    <a:ext cx="44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35240" y="6146640"/>
          <a:ext cx="128592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5240" y="6146640"/>
                    <a:ext cx="1285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32320" y="6146640"/>
          <a:ext cx="1116000" cy="57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32320" y="6146640"/>
                    <a:ext cx="1116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378240" y="5079960"/>
          <a:ext cx="11318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78240" y="5079960"/>
                    <a:ext cx="1131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629400" y="4114800"/>
          <a:ext cx="2236680" cy="99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4114800"/>
                    <a:ext cx="22366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276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6720" y="3078000"/>
                <a:ext cx="5085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1" name=""/>
          <p:cNvGraphicFramePr/>
          <p:nvPr/>
        </p:nvGraphicFramePr>
        <p:xfrm>
          <a:off x="6662880" y="3124080"/>
          <a:ext cx="206676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3124080"/>
                    <a:ext cx="2066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70120" y="3857760"/>
                <a:ext cx="464652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1778040" y="3962520"/>
          <a:ext cx="460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3962520"/>
                    <a:ext cx="46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139920" y="3733920"/>
          <a:ext cx="42732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3733920"/>
                    <a:ext cx="4273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902120" y="3962520"/>
          <a:ext cx="5144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2120" y="396252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0880" y="4648320"/>
          <a:ext cx="246852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648320"/>
                    <a:ext cx="24685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819520" y="4724280"/>
          <a:ext cx="51408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724280"/>
                    <a:ext cx="514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124080" y="5105520"/>
          <a:ext cx="11937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4080" y="51055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219320" y="5105520"/>
          <a:ext cx="1193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51055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14400" y="5689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25760" y="5715000"/>
          <a:ext cx="7570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25760" y="5715000"/>
                    <a:ext cx="757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286000" y="5791320"/>
          <a:ext cx="102888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5791320"/>
                    <a:ext cx="10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352680" y="5715000"/>
          <a:ext cx="776520" cy="57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5715000"/>
                    <a:ext cx="776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52680" y="4648320"/>
          <a:ext cx="87480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52680" y="4648320"/>
                    <a:ext cx="874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740640" y="3581280"/>
          <a:ext cx="2403360" cy="171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40640" y="3581280"/>
                    <a:ext cx="24033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 flipH="1">
            <a:off x="177804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59120" y="3886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58880" y="6245280"/>
          <a:ext cx="5191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888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19520" y="6245280"/>
          <a:ext cx="519120" cy="61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1952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523880" y="624528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1476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657600" y="6245280"/>
          <a:ext cx="5191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65760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355284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257800" y="5867280"/>
          <a:ext cx="1166760" cy="747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499080" y="5516640"/>
          <a:ext cx="878040" cy="1341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499080" y="5516640"/>
                    <a:ext cx="878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315200" y="5791320"/>
          <a:ext cx="884160" cy="61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791320"/>
                    <a:ext cx="884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8T00:18:17Z</dcterms:modified>
  <cp:revision>170</cp:revision>
  <dc:subject/>
  <dc:title>No Slide Title</dc:title>
</cp:coreProperties>
</file>